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0BC2-79D8-4CBD-844D-D8F184D2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022-6B13-4F79-B86A-436DC733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294-8627-4548-9A27-96C56CF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BFE-A8CB-4E5A-BA32-A684364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8D7-C42C-4D6D-AAC6-8684822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70F-00AE-41F2-BFF9-377ADD2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2E3-7E7A-4B76-8857-F3D87F3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22F-C4CC-4144-A076-FBB74F9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7E7-7C89-4731-A4A4-602B633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0CC-4F94-46F9-BBB7-BD85AA7E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656-9263-458E-AB46-442089F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BE6-AA8A-4564-AD2A-F381920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BB1-743A-4E43-A0CF-F0965C7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628-8BBD-476D-BBC9-F9861D2E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’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y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3-11-12T19:01:49Z</dcterms:modified>
  <cp:revision>79</cp:revision>
  <dc:subject/>
  <dc:title>Molecular Genetics</dc:title>
</cp:coreProperties>
</file>